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1440" y="4073760"/>
            <a:ext cx="6708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9440" y="192420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1440" y="407376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9440" y="407376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2160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09800" y="1924200"/>
            <a:ext cx="2160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8160" y="1924200"/>
            <a:ext cx="2160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1440" y="4073760"/>
            <a:ext cx="2160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09800" y="4073760"/>
            <a:ext cx="2160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8160" y="4073760"/>
            <a:ext cx="2160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3273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9440" y="1924200"/>
            <a:ext cx="3273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9360" y="209160"/>
            <a:ext cx="806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924200"/>
            <a:ext cx="3273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1440" y="407376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3273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9440" y="192420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9440" y="407376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9440" y="1924200"/>
            <a:ext cx="3273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1440" y="4073760"/>
            <a:ext cx="6708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021c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505" h="4313">
                  <a:moveTo>
                    <a:pt x="0" y="0"/>
                  </a:moveTo>
                  <a:lnTo>
                    <a:pt x="0" y="4312"/>
                  </a:lnTo>
                  <a:lnTo>
                    <a:pt x="168" y="4312"/>
                  </a:lnTo>
                  <a:lnTo>
                    <a:pt x="168" y="0"/>
                  </a:lnTo>
                  <a:lnTo>
                    <a:pt x="336" y="0"/>
                  </a:lnTo>
                  <a:lnTo>
                    <a:pt x="336" y="4312"/>
                  </a:lnTo>
                  <a:lnTo>
                    <a:pt x="504" y="4312"/>
                  </a:lnTo>
                  <a:lnTo>
                    <a:pt x="504" y="0"/>
                  </a:lnTo>
                  <a:lnTo>
                    <a:pt x="504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504" y="297"/>
                  </a:lnTo>
                  <a:lnTo>
                    <a:pt x="504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504" y="595"/>
                  </a:lnTo>
                  <a:lnTo>
                    <a:pt x="504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504" y="892"/>
                  </a:lnTo>
                  <a:lnTo>
                    <a:pt x="504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504" y="1190"/>
                  </a:lnTo>
                  <a:lnTo>
                    <a:pt x="504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504" y="1487"/>
                  </a:lnTo>
                  <a:lnTo>
                    <a:pt x="504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504" y="1784"/>
                  </a:lnTo>
                  <a:lnTo>
                    <a:pt x="504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504" y="2082"/>
                  </a:lnTo>
                  <a:lnTo>
                    <a:pt x="504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504" y="2379"/>
                  </a:lnTo>
                  <a:lnTo>
                    <a:pt x="504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504" y="2676"/>
                  </a:lnTo>
                  <a:lnTo>
                    <a:pt x="504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504" y="2974"/>
                  </a:lnTo>
                  <a:lnTo>
                    <a:pt x="504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504" y="3271"/>
                  </a:lnTo>
                  <a:lnTo>
                    <a:pt x="504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504" y="3569"/>
                  </a:lnTo>
                  <a:lnTo>
                    <a:pt x="504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504" y="3866"/>
                  </a:lnTo>
                  <a:lnTo>
                    <a:pt x="504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504" y="4163"/>
                  </a:lnTo>
                  <a:lnTo>
                    <a:pt x="504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504" y="4312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21c6a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36360" y="6318360"/>
            <a:ext cx="143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enter for N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244160" y="6496200"/>
            <a:ext cx="5829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782280"/>
            <a:ext cx="8077320" cy="190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ither Come the Words?</a:t>
            </a:r>
            <a:br>
              <a:rPr sz="3600"/>
            </a:br>
            <a:br>
              <a:rPr sz="36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15680" y="3715920"/>
            <a:ext cx="8427960" cy="222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r. Elizabeth D. Lid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Center for Natural Language Proc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School of Information Stud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Syracuse Univers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8400" y="768240"/>
            <a:ext cx="7410240" cy="1866960"/>
          </a:xfrm>
          <a:prstGeom prst="rect">
            <a:avLst/>
          </a:prstGeom>
          <a:noFill/>
          <a:ln w="2844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-based Thesauri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1440" y="1974600"/>
            <a:ext cx="6708960" cy="4025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datab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 information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the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support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1360" y="1397160"/>
            <a:ext cx="8432640" cy="0"/>
          </a:xfrm>
          <a:prstGeom prst="line">
            <a:avLst/>
          </a:prstGeom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guistic Thesauri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purpose sty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g. Roget’s, Word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explicit concept hierarchies of up to 8 increasingly specified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assumption that the words in a semi-colon group (RIT) or a synset (WordNet) are synonymous or near-synony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/ difficulty is selecting correct sense for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1360" y="11685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2040" y="1440000"/>
            <a:ext cx="8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53320" y="1438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68640" y="14320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8720" y="1432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2840" y="1441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3520" y="14382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l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05920" y="14400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l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65600" y="1430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f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24200" y="209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0720" y="47952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15600" y="479520"/>
            <a:ext cx="271476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23760" y="479520"/>
            <a:ext cx="150660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0720" y="480960"/>
            <a:ext cx="267984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230360" y="469800"/>
            <a:ext cx="1552680" cy="9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644640" y="488880"/>
            <a:ext cx="585720" cy="9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30720" y="488880"/>
            <a:ext cx="601560" cy="9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6560" y="488880"/>
            <a:ext cx="3571920" cy="9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09600" y="1696680"/>
            <a:ext cx="5114160" cy="1488600"/>
            <a:chOff x="3009600" y="1696680"/>
            <a:chExt cx="5114160" cy="1488600"/>
          </a:xfrm>
        </p:grpSpPr>
        <p:sp>
          <p:nvSpPr>
            <p:cNvPr id="94" name=""/>
            <p:cNvSpPr/>
            <p:nvPr/>
          </p:nvSpPr>
          <p:spPr>
            <a:xfrm>
              <a:off x="3009600" y="266508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n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200" y="265896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u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2240" y="265896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25000" y="2668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m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24280" y="2665080"/>
              <a:ext cx="57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6640" y="26668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e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65560" y="1706400"/>
              <a:ext cx="0" cy="9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59320" y="1706400"/>
              <a:ext cx="1506240" cy="9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65560" y="1707840"/>
              <a:ext cx="2679840" cy="9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5065200" y="1696680"/>
              <a:ext cx="155268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479480" y="1715760"/>
              <a:ext cx="58572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65560" y="1715760"/>
              <a:ext cx="60192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874400" y="38829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040" y="38829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g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37800" y="38926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64280" y="38894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or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11920" y="293040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00760" y="2921040"/>
            <a:ext cx="1563840" cy="9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326200" y="2941560"/>
            <a:ext cx="57456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11920" y="2916360"/>
            <a:ext cx="601560" cy="9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6120" y="4157640"/>
            <a:ext cx="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56120" y="4157640"/>
            <a:ext cx="144792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3520" y="4157640"/>
            <a:ext cx="104616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43520" y="4168800"/>
            <a:ext cx="647640" cy="87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179960"/>
            <a:ext cx="292320" cy="86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406760" y="4154400"/>
            <a:ext cx="1447920" cy="89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21120" y="4156200"/>
            <a:ext cx="1046160" cy="89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230800" y="4167360"/>
            <a:ext cx="63648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562720" y="4178160"/>
            <a:ext cx="280800" cy="8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4764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16120" y="50450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1616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616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3820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832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9376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12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97240" y="5046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32080" y="5361120"/>
            <a:ext cx="50652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26000" y="5349960"/>
            <a:ext cx="283392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26000" y="5361120"/>
            <a:ext cx="1648080" cy="88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49760" y="5383080"/>
            <a:ext cx="633600" cy="8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31600" y="5359320"/>
            <a:ext cx="2917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916080" y="5370480"/>
            <a:ext cx="160956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2840" y="6194520"/>
            <a:ext cx="68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ense; joss stick;pastille; frankincense or olibanum; agallock or aloeswood; calamb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guistic Thesaurus Use in I R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1440" y="1618920"/>
            <a:ext cx="67089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used on either / both documents or que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monly done on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s are expanded by adding one or all of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ny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ny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s caused b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matic, specialize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mpositional phrases not in thesa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1360" y="12063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s used by Voorhees ’93 Research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720" y="1549080"/>
            <a:ext cx="7835760" cy="454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up each word from text in Word N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ord is found, the set of synonyms from all Synsets are added to the query repres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ght each added word as .8 rather than 1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 results to be better than plain SM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erformance ov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cause of error was when ambiguous words’ Synsets are used in expa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68560"/>
            <a:ext cx="8458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se of Thesauri for expansion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thesauri such as Roget’s or WordNet have not been shown conclusively to improve resul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acrifice precision to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domain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nse disambig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, a currently active field of R &amp; 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193760"/>
            <a:ext cx="8458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mbigua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levant documents may be retriev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they contain the query term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wr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query ter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good Word Sense Disambig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8400" y="11937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mple ambiguous query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would like information about developments in low-risk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strumen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especially those being offered by companies specializing in bon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man Sense Disambigua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720" y="1574280"/>
            <a:ext cx="798840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s of influence known from psycholinguistics research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ntence / query containing the ambiguous word restricts the interpretation of the ambiguous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Continuum from Human to Statistical Indexing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1080" y="1568520"/>
            <a:ext cx="6937560" cy="447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vocabu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ed Initiat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-aided / Human-ass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Language Processing 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1360" y="11811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mple ambiguous query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would like information about developments in low-risk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strumen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especially those being offered by companies specializing i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n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181160"/>
            <a:ext cx="8458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man Sense Disambigua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4720" y="1574280"/>
            <a:ext cx="798840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s of influence known from psycholinguistics research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ntence / query containing the ambiguous word restricts the interpretation of the ambiguous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ct that a text is concerned with a particular domain activates only the sense appropriate to that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quency of each sense in general usage affects its accessibility to the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hine Readable Lexical Source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entries for polysemous wo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r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1360" y="11685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hine Readable Lexical Source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s are ranked by frequency of occurrence in usag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u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D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Empirical 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rpus-based Word Sense Disambigua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74280"/>
            <a:ext cx="807732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vised learning from manually sense-tagged corpor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development of algorithms which can correctly tag each word with its correct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s context, which then proves essential in real-time disambig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 small window of words surrounding the ambiguous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&amp; cost in tagging the training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tag for new domains or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" y="11811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 Sense Disambigua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ct on retrieval resul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v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pproach 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query (short queries, especial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nsider it a proven technique for improving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re concerned about the trade-off in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960" y="1193760"/>
            <a:ext cx="84200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tistical Thesauri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thesaurus constr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terms produced are not necessarily synonymous, nor broader, nor na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, words that tend to co-occur with head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ness varies considerably depending on techniqu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400" y="11811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omatic Thesaurus Construction (Salton)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Collection B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ndex term 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vector similarities for each pair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fficiently similar, create a thesaurus entry for each term which includes terms from similar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8400" y="11937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mple Automatic Thesaurus Entries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8  dis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1  coerc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emagnetiz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-carr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lux-lea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cont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hyster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du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nsi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9  blast-coo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magnetoresi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-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square-lo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-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thresho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0  ann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2  longitudi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transver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360" y="11685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ynamic Automatic Thesaurus Construction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aurus short-c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at qu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all terms in query into consideration at o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frequent words and phrases in top retrieved documents and add these to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Automatic Relevanc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ic Premis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quality of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presen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cuments determin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‘richness’ of the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‘quality’ of access to relevant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‘value-add’ analytics the syst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complish f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1193760"/>
            <a:ext cx="84200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pansion by an Association Thesauru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act of the 1986 Immigration La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rases retrieved by association in corp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llegal immigratio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stat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amnesty program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applic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immigration reform law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seeking amnes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editorial page articl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legal stat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naturalization servic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immigration a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civil fines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undocumented work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new immigration law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guest work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legal immigratio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sweeping immigration la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employer sanctions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undocumented ali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8400" y="11937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4080" y="151920"/>
            <a:ext cx="835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LP-based Indexing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59312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166680" indent="-1666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ational process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dentify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lec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trac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seful information from massive volumes of textual data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for potential review by index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or stand-alone representation of con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sing Natural Language Process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85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0">
              <a:lnSpc>
                <a:spcPct val="85000"/>
              </a:lnSpc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080" y="1295280"/>
            <a:ext cx="8342280" cy="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4080" y="151920"/>
            <a:ext cx="8234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tural Language Processing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41080" y="16765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range of computational techniqu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nalyzing and representing naturally occurring tex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one or more levels of linguistic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purpose of achieving human-like language process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range of tasks or ap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4080" y="1295280"/>
            <a:ext cx="8234640" cy="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0080" y="182160"/>
            <a:ext cx="791856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vels of Language Understanding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9960" y="1525680"/>
            <a:ext cx="604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99480" y="1512720"/>
            <a:ext cx="0" cy="461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805040" y="6135840"/>
            <a:ext cx="6105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7360" y="1957320"/>
            <a:ext cx="5286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99200" y="1957320"/>
            <a:ext cx="0" cy="374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17640" y="5716440"/>
            <a:ext cx="529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9960" y="2363760"/>
            <a:ext cx="447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99280" y="2376360"/>
            <a:ext cx="0" cy="290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817640" y="5297400"/>
            <a:ext cx="449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782800"/>
            <a:ext cx="368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99000" y="27957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05040" y="4878360"/>
            <a:ext cx="37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39960" y="3201840"/>
            <a:ext cx="28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99080" y="3214800"/>
            <a:ext cx="0" cy="123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05040" y="4459320"/>
            <a:ext cx="290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7360" y="362124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98800" y="363384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804680" y="4040280"/>
            <a:ext cx="21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38160" y="146700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ag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16000" y="188604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34520" y="2322360"/>
            <a:ext cx="138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22560" y="2744640"/>
            <a:ext cx="246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nta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7520" y="314316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02800" y="3575160"/>
            <a:ext cx="224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ph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can NLP Indexing do?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rase recogn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mbigu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 expan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Summary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7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exist a range of approaches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ing documents and quer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needs to be evaluated in term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ir ability to accomplish the goa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appl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applications have opened a who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world of possible variation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 indexing approa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960" y="1219320"/>
            <a:ext cx="842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ntral Problem of IR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8876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present documents for retrieval (Blair, 199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issue in controlled vocabulary representation  &amp;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true with full-text indexing and free-text querying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documents &amp; queries are expressed i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is complex and amb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for solving the language issue are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R systems don’t even attempt to 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challenge of high quality 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1360" y="11937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360" y="323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 Identify indexable / queryable elements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erm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pha-numeric characters between blank spaces or punc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non-compositional phr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word proper na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inter-word symbols such as hyphens or apostroph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business men” vs. “small-business m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1360" y="130824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 Represent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cep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ehind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r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1440" y="1924200"/>
            <a:ext cx="6950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lity to take ‘terms’, a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 to alternative ‘term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mbig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 that the concept behind the ‘term’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ed in both documents &amp; quer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8400" y="12063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9360" y="20952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erm Expansion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1440" y="1568520"/>
            <a:ext cx="6708960" cy="447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al - add all variant terms which refer to the same concep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synonymous expressions or associate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ither thesaurus, semantic network, or statistically determined co-occurring terms/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ired by success of humanly-consulted IR thesauri used in earlies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ves the user from needing to generate all conceptual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1360" y="11685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erm expansion: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6240" y="1574280"/>
            <a:ext cx="7734240" cy="45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960" y="1168560"/>
            <a:ext cx="84200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360" y="2091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-based Thesauri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1440" y="1530360"/>
            <a:ext cx="670896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R. - styl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ded for human indexers and sear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 constructed for a specific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 synonymous, more general, and more specific ter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question is how to utilize them appropriately in Web-based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1360" y="1168560"/>
            <a:ext cx="8432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6T21:13:32Z</dcterms:created>
  <dc:creator>Elizabeth Liddy</dc:creator>
  <dc:description/>
  <dc:language>en-US</dc:language>
  <cp:lastModifiedBy>Information International Associates, Inc.</cp:lastModifiedBy>
  <cp:lastPrinted>1998-06-17T02:02:08Z</cp:lastPrinted>
  <dcterms:modified xsi:type="dcterms:W3CDTF">1999-12-03T13:07:19Z</dcterms:modified>
  <cp:revision>186</cp:revision>
  <dc:subject/>
  <dc:title>KNOW-IT  KNOWledge base Information Tools  </dc:title>
</cp:coreProperties>
</file>